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70373"/>
        <c:axId val="79834408"/>
      </c:barChart>
      <c:catAx>
        <c:axId val="5387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34408"/>
        <c:crosses val="autoZero"/>
        <c:auto val="1"/>
        <c:lblAlgn val="ctr"/>
        <c:lblOffset val="100"/>
        <c:noMultiLvlLbl val="0"/>
      </c:catAx>
      <c:valAx>
        <c:axId val="79834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7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A9C-7B00-4691-B575-66BA7C7A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40A-B447-41E8-851E-64A038BE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C8B-9669-4160-BFF2-A97DB5A8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542-8945-49D6-9FD4-0807C707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B8B-8C48-4FDD-B6A2-4CEA6332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5BA-EF8F-4C7D-B7AC-7B105B5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13B-547D-4146-849E-CA5B599C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3BB-60E2-4BF2-874B-CF7A89A5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63D-73B9-4C92-A2EE-0343B70E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4A9-C9F1-4E94-97B3-5C31B75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145-9485-4761-8ACC-DC608819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D55-1788-4BE6-8325-9BD33EA1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79530-D3AF-49BB-B89D-33F363EFCB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