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77050"/>
        <c:axId val="19000114"/>
      </c:barChart>
      <c:catAx>
        <c:axId val="70477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00114"/>
        <c:crosses val="autoZero"/>
        <c:auto val="1"/>
        <c:lblAlgn val="ctr"/>
        <c:lblOffset val="100"/>
        <c:noMultiLvlLbl val="0"/>
      </c:catAx>
      <c:valAx>
        <c:axId val="19000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77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60C-FFF4-4E9C-A183-B0AC1AF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6E4-DB7C-42B9-9C77-8081D26E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BC4-3418-4534-908D-62EF0DFB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23A-72E9-40F1-9458-555F5B67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8B2-5B44-41CC-B576-7932594A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57C-905B-4605-B69F-7A9D34A9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E27-8787-4928-96D2-6A8F5D3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787-1F4E-434A-9275-E2C72AC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274-2E12-4371-9767-A123A17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F19-A2CC-473B-9CD2-4C4AE26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33A-5E83-43D5-8760-8C026CB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409-BA2E-4B47-96FA-84B723D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A17E-8719-4589-95A0-950A914A6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